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94C-F2BF-49FA-92D2-D4D29077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615-4D7C-4D8D-A16E-1A34778A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9C22-4F25-4E58-A283-F9D1C75D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191-F422-449C-9E40-85F3CA00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725-A8F4-40C1-8FDC-DE32231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3F8-CE4F-463C-9D38-EE8B876E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1BCA-12A5-4CD8-86E8-13CE5608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97DE-4968-4A0A-9FF9-C99FE70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52B-615A-443A-87E6-2356093B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C3D-B5A2-402D-B43B-AE1B77CF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834-B6E5-462A-A7F6-B1CFECA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ECE-427D-45F3-8183-D93F975D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49FC-7D74-48BD-9495-2B9D798963A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1"/>
          <p:cNvGrpSpPr/>
          <p:nvPr/>
        </p:nvGrpSpPr>
        <p:grpSpPr>
          <a:xfrm>
            <a:off x="6551640" y="-209520"/>
            <a:ext cx="2987640" cy="2987640"/>
            <a:chOff x="6551640" y="-209520"/>
            <a:chExt cx="2987640" cy="2987640"/>
          </a:xfrm>
        </p:grpSpPr>
        <p:pic>
          <p:nvPicPr>
            <p:cNvPr id="42" name="Picture 1" descr=""/>
            <p:cNvPicPr/>
            <p:nvPr/>
          </p:nvPicPr>
          <p:blipFill>
            <a:blip r:embed="rId1"/>
            <a:stretch/>
          </p:blipFill>
          <p:spPr>
            <a:xfrm>
              <a:off x="6551640" y="-20952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3" name="Straight Arrow Connector 33"/>
            <p:cNvCxnSpPr/>
            <p:nvPr/>
          </p:nvCxnSpPr>
          <p:spPr>
            <a:xfrm flipV="1">
              <a:off x="8065800" y="408960"/>
              <a:ext cx="208440" cy="9021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" name="Straight Arrow Connector 34"/>
            <p:cNvCxnSpPr/>
            <p:nvPr/>
          </p:nvCxnSpPr>
          <p:spPr>
            <a:xfrm flipH="1">
              <a:off x="8027280" y="1310760"/>
              <a:ext cx="38520" cy="125172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45" name="Group 42"/>
          <p:cNvGrpSpPr/>
          <p:nvPr/>
        </p:nvGrpSpPr>
        <p:grpSpPr>
          <a:xfrm>
            <a:off x="-243000" y="4071960"/>
            <a:ext cx="2987640" cy="2987640"/>
            <a:chOff x="-243000" y="4071960"/>
            <a:chExt cx="2987640" cy="2987640"/>
          </a:xfrm>
        </p:grpSpPr>
        <p:pic>
          <p:nvPicPr>
            <p:cNvPr id="46" name="Picture 1" descr=""/>
            <p:cNvPicPr/>
            <p:nvPr/>
          </p:nvPicPr>
          <p:blipFill>
            <a:blip r:embed="rId2"/>
            <a:stretch/>
          </p:blipFill>
          <p:spPr>
            <a:xfrm>
              <a:off x="-243000" y="407196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47" name="Straight Arrow Connector 44"/>
            <p:cNvCxnSpPr/>
            <p:nvPr/>
          </p:nvCxnSpPr>
          <p:spPr>
            <a:xfrm flipV="1">
              <a:off x="1271160" y="5338080"/>
              <a:ext cx="851400" cy="254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" name="Straight Arrow Connector 45"/>
            <p:cNvCxnSpPr/>
            <p:nvPr/>
          </p:nvCxnSpPr>
          <p:spPr>
            <a:xfrm flipH="1">
              <a:off x="1232640" y="5592240"/>
              <a:ext cx="38520" cy="125172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49" name="Group 4"/>
          <p:cNvGrpSpPr/>
          <p:nvPr/>
        </p:nvGrpSpPr>
        <p:grpSpPr>
          <a:xfrm>
            <a:off x="1476360" y="223920"/>
            <a:ext cx="6407280" cy="6408720"/>
            <a:chOff x="1476360" y="223920"/>
            <a:chExt cx="6407280" cy="6408720"/>
          </a:xfrm>
        </p:grpSpPr>
        <p:pic>
          <p:nvPicPr>
            <p:cNvPr id="50" name="Picture 1" descr=""/>
            <p:cNvPicPr/>
            <p:nvPr/>
          </p:nvPicPr>
          <p:blipFill>
            <a:blip r:embed="rId3"/>
            <a:stretch/>
          </p:blipFill>
          <p:spPr>
            <a:xfrm>
              <a:off x="1476360" y="223920"/>
              <a:ext cx="6407280" cy="64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Oval 2"/>
            <p:cNvSpPr/>
            <p:nvPr/>
          </p:nvSpPr>
          <p:spPr>
            <a:xfrm>
              <a:off x="1871640" y="619200"/>
              <a:ext cx="5615280" cy="561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-47520" y="-135000"/>
            <a:ext cx="2987640" cy="2987640"/>
            <a:chOff x="-47520" y="-135000"/>
            <a:chExt cx="2987640" cy="2987640"/>
          </a:xfrm>
        </p:grpSpPr>
        <p:pic>
          <p:nvPicPr>
            <p:cNvPr id="53" name="Picture 1" descr=""/>
            <p:cNvPicPr/>
            <p:nvPr/>
          </p:nvPicPr>
          <p:blipFill>
            <a:blip r:embed="rId4"/>
            <a:stretch/>
          </p:blipFill>
          <p:spPr>
            <a:xfrm>
              <a:off x="-47520" y="-13500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4" name="Straight Arrow Connector 22"/>
            <p:cNvCxnSpPr/>
            <p:nvPr/>
          </p:nvCxnSpPr>
          <p:spPr>
            <a:xfrm flipH="1" flipV="1">
              <a:off x="1428120" y="497520"/>
              <a:ext cx="38520" cy="888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Straight Arrow Connector 23"/>
            <p:cNvCxnSpPr/>
            <p:nvPr/>
          </p:nvCxnSpPr>
          <p:spPr>
            <a:xfrm flipH="1" flipV="1">
              <a:off x="202680" y="1361520"/>
              <a:ext cx="1264320" cy="244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56" name="Group 37"/>
          <p:cNvGrpSpPr/>
          <p:nvPr/>
        </p:nvGrpSpPr>
        <p:grpSpPr>
          <a:xfrm>
            <a:off x="6316560" y="4086360"/>
            <a:ext cx="2987640" cy="2987640"/>
            <a:chOff x="6316560" y="4086360"/>
            <a:chExt cx="2987640" cy="2987640"/>
          </a:xfrm>
        </p:grpSpPr>
        <p:pic>
          <p:nvPicPr>
            <p:cNvPr id="57" name="Picture 1" descr=""/>
            <p:cNvPicPr/>
            <p:nvPr/>
          </p:nvPicPr>
          <p:blipFill>
            <a:blip r:embed="rId5"/>
            <a:stretch/>
          </p:blipFill>
          <p:spPr>
            <a:xfrm>
              <a:off x="6316560" y="4086360"/>
              <a:ext cx="2987640" cy="2987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58" name="Straight Arrow Connector 39"/>
            <p:cNvCxnSpPr/>
            <p:nvPr/>
          </p:nvCxnSpPr>
          <p:spPr>
            <a:xfrm flipH="1" flipV="1">
              <a:off x="7771680" y="4701600"/>
              <a:ext cx="38520" cy="8895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Straight Arrow Connector 40"/>
            <p:cNvCxnSpPr/>
            <p:nvPr/>
          </p:nvCxnSpPr>
          <p:spPr>
            <a:xfrm>
              <a:off x="7809840" y="5563800"/>
              <a:ext cx="1215000" cy="10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sp>
        <p:nvSpPr>
          <p:cNvPr id="60" name="TextBox 12"/>
          <p:cNvSpPr/>
          <p:nvPr/>
        </p:nvSpPr>
        <p:spPr>
          <a:xfrm>
            <a:off x="2556000" y="1557360"/>
            <a:ext cx="4032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Telling th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Tim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Quarter Past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Half Past an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254061"/>
                </a:solidFill>
                <a:latin typeface="Twinkl"/>
                <a:ea typeface="Arial"/>
              </a:rPr>
              <a:t>Quarter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5219640" y="3068640"/>
            <a:ext cx="3490920" cy="32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"/>
          <p:cNvPicPr/>
          <p:nvPr/>
        </p:nvPicPr>
        <p:blipFill>
          <a:blip r:embed="rId2"/>
          <a:srcRect l="38122" t="41603" r="38122" b="42805"/>
          <a:stretch/>
        </p:blipFill>
        <p:spPr>
          <a:xfrm>
            <a:off x="2843280" y="2205000"/>
            <a:ext cx="349092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"/>
          <p:cNvPicPr/>
          <p:nvPr/>
        </p:nvPicPr>
        <p:blipFill>
          <a:blip r:embed="rId3"/>
          <a:srcRect l="38122" t="41603" r="38122" b="42805"/>
          <a:stretch/>
        </p:blipFill>
        <p:spPr>
          <a:xfrm>
            <a:off x="290520" y="3141720"/>
            <a:ext cx="34894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Rounded Rectangle 7"/>
          <p:cNvSpPr/>
          <p:nvPr/>
        </p:nvSpPr>
        <p:spPr>
          <a:xfrm>
            <a:off x="1116000" y="981000"/>
            <a:ext cx="69850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620720" y="981000"/>
            <a:ext cx="5977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inkl"/>
                <a:ea typeface="Arial"/>
              </a:rPr>
              <a:t>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half 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ich clock is showing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t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1666080" y="4511160"/>
            <a:ext cx="360000" cy="1289880"/>
            <a:chOff x="1666080" y="4511160"/>
            <a:chExt cx="360000" cy="1289880"/>
          </a:xfrm>
        </p:grpSpPr>
        <p:cxnSp>
          <p:nvCxnSpPr>
            <p:cNvPr id="119" name="Straight Arrow Connector 11"/>
            <p:cNvCxnSpPr/>
            <p:nvPr/>
          </p:nvCxnSpPr>
          <p:spPr>
            <a:xfrm flipH="1" flipV="1">
              <a:off x="1666080" y="4511160"/>
              <a:ext cx="359640" cy="418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Straight Arrow Connector 12"/>
            <p:cNvCxnSpPr/>
            <p:nvPr/>
          </p:nvCxnSpPr>
          <p:spPr>
            <a:xfrm>
              <a:off x="2025360" y="4917960"/>
              <a:ext cx="1080" cy="88344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121" name="Group 4"/>
          <p:cNvGrpSpPr/>
          <p:nvPr/>
        </p:nvGrpSpPr>
        <p:grpSpPr>
          <a:xfrm>
            <a:off x="4538520" y="3698280"/>
            <a:ext cx="873720" cy="255960"/>
            <a:chOff x="4538520" y="3698280"/>
            <a:chExt cx="873720" cy="255960"/>
          </a:xfrm>
        </p:grpSpPr>
        <p:cxnSp>
          <p:nvCxnSpPr>
            <p:cNvPr id="122" name="Straight Arrow Connector 26"/>
            <p:cNvCxnSpPr/>
            <p:nvPr/>
          </p:nvCxnSpPr>
          <p:spPr>
            <a:xfrm flipV="1">
              <a:off x="4563360" y="3698280"/>
              <a:ext cx="513720" cy="2264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Straight Arrow Connector 27"/>
            <p:cNvCxnSpPr/>
            <p:nvPr/>
          </p:nvCxnSpPr>
          <p:spPr>
            <a:xfrm>
              <a:off x="4538520" y="3933720"/>
              <a:ext cx="874080" cy="208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  <p:grpSp>
        <p:nvGrpSpPr>
          <p:cNvPr id="124" name="Group 4"/>
          <p:cNvGrpSpPr/>
          <p:nvPr/>
        </p:nvGrpSpPr>
        <p:grpSpPr>
          <a:xfrm>
            <a:off x="6298560" y="4865400"/>
            <a:ext cx="719640" cy="579600"/>
            <a:chOff x="6298560" y="4865400"/>
            <a:chExt cx="719640" cy="579600"/>
          </a:xfrm>
        </p:grpSpPr>
        <p:cxnSp>
          <p:nvCxnSpPr>
            <p:cNvPr id="125" name="Straight Arrow Connector 31"/>
            <p:cNvCxnSpPr/>
            <p:nvPr/>
          </p:nvCxnSpPr>
          <p:spPr>
            <a:xfrm flipH="1">
              <a:off x="6730560" y="4865400"/>
              <a:ext cx="288000" cy="5799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Straight Arrow Connector 32"/>
            <p:cNvCxnSpPr/>
            <p:nvPr/>
          </p:nvCxnSpPr>
          <p:spPr>
            <a:xfrm flipH="1" flipV="1">
              <a:off x="6298560" y="4865400"/>
              <a:ext cx="719640" cy="10080"/>
            </a:xfrm>
            <a:prstGeom prst="straightConnector1">
              <a:avLst/>
            </a:prstGeom>
            <a:ln w="76320">
              <a:solidFill>
                <a:srgbClr val="00b0f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7"/>
          <p:cNvSpPr/>
          <p:nvPr/>
        </p:nvSpPr>
        <p:spPr>
          <a:xfrm>
            <a:off x="1042920" y="2276640"/>
            <a:ext cx="698508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3954600" y="903240"/>
            <a:ext cx="1122120" cy="870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1258920" y="234936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L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: To tell the time at quarter past, half past and quarter to the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at a clock is made up of 4 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at a clock is made up of 2 ha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know the time is read ‘past the hour’ and ‘to the hour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0"/>
          <p:cNvSpPr/>
          <p:nvPr/>
        </p:nvSpPr>
        <p:spPr>
          <a:xfrm>
            <a:off x="1116000" y="981000"/>
            <a:ext cx="698508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476360" y="990720"/>
            <a:ext cx="59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winkl"/>
                <a:ea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second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minute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quarter of 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half an hou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month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28-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yea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days are there i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a leap year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403280" y="104940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A clock face is a full circle which is made up of 4 quar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899000" y="5543640"/>
            <a:ext cx="54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ow many minutes make up quarter of an ho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1774800" y="981000"/>
            <a:ext cx="5533920" cy="513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138320" y="684360"/>
            <a:ext cx="6697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inkl"/>
                <a:ea typeface="Arial"/>
              </a:rPr>
              <a:t>There are 15 minutes in quarter of an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1"/>
          <a:srcRect l="38122" t="41603" r="38122" b="42805"/>
          <a:stretch/>
        </p:blipFill>
        <p:spPr>
          <a:xfrm>
            <a:off x="1774800" y="981000"/>
            <a:ext cx="5533920" cy="5137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258920" y="90792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n we tell the time we either say it is ‘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past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’ or ‘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to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’ the hou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urved Up Arrow 3"/>
          <p:cNvSpPr/>
          <p:nvPr/>
        </p:nvSpPr>
        <p:spPr>
          <a:xfrm flipH="1" rot="16200000">
            <a:off x="4703040" y="3364560"/>
            <a:ext cx="3612960" cy="1284480"/>
          </a:xfrm>
          <a:custGeom>
            <a:avLst/>
            <a:gdLst>
              <a:gd name="textAreaLeft" fmla="*/ 782640 w 3612960"/>
              <a:gd name="textAreaRight" fmla="*/ 2669760 w 3612960"/>
              <a:gd name="textAreaTop" fmla="*/ 172080 h 1284480"/>
              <a:gd name="textAreaBottom" fmla="*/ 1112400 h 128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-3552781"/>
                <a:lnTo>
                  <a:pt x="21303" y="5400"/>
                </a:lnTo>
                <a:lnTo>
                  <a:pt x="19681" y="0"/>
                </a:lnTo>
                <a:lnTo>
                  <a:pt x="17464" y="5400"/>
                </a:lnTo>
                <a:lnTo>
                  <a:pt x="18424" y="5400"/>
                </a:lnTo>
                <a:arcTo wR="9361" hR="21600" stAng="1847219" swAng="3399365"/>
                <a:lnTo>
                  <a:pt x="10320" y="21486"/>
                </a:lnTo>
                <a:arcTo wR="9361" hR="21600" stAng="5553416" swAng="5246584"/>
                <a:close/>
              </a:path>
              <a:path fill="darkenLess"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153416"/>
                <a:lnTo>
                  <a:pt x="10320" y="21486"/>
                </a:lnTo>
                <a:arcTo wR="9361" hR="21600" stAng="5553416" swAng="5246584"/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urved Up Arrow 12"/>
          <p:cNvSpPr/>
          <p:nvPr/>
        </p:nvSpPr>
        <p:spPr>
          <a:xfrm flipV="1" rot="16200000">
            <a:off x="790200" y="3174480"/>
            <a:ext cx="3614760" cy="1284120"/>
          </a:xfrm>
          <a:custGeom>
            <a:avLst/>
            <a:gdLst>
              <a:gd name="textAreaLeft" fmla="*/ 783000 w 3614760"/>
              <a:gd name="textAreaRight" fmla="*/ 2671200 w 3614760"/>
              <a:gd name="textAreaTop" fmla="*/ 172080 h 1284120"/>
              <a:gd name="textAreaBottom" fmla="*/ 1112040 h 12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-3552862"/>
                <a:lnTo>
                  <a:pt x="21303" y="5400"/>
                </a:lnTo>
                <a:lnTo>
                  <a:pt x="19682" y="0"/>
                </a:lnTo>
                <a:lnTo>
                  <a:pt x="17466" y="5400"/>
                </a:lnTo>
                <a:lnTo>
                  <a:pt x="18425" y="5400"/>
                </a:lnTo>
                <a:arcTo wR="9361" hR="21600" stAng="1847138" swAng="3399446"/>
                <a:lnTo>
                  <a:pt x="10321" y="21486"/>
                </a:lnTo>
                <a:arcTo wR="9361" hR="21600" stAng="5553416" swAng="5246584"/>
                <a:close/>
              </a:path>
              <a:path fill="darkenLess" w="21600" h="21600">
                <a:moveTo>
                  <a:pt x="0" y="0"/>
                </a:moveTo>
                <a:arcTo wR="9361" hR="21600" stAng="10800000" swAng="-5400000"/>
                <a:lnTo>
                  <a:pt x="11280" y="21600"/>
                </a:lnTo>
                <a:arcTo wR="9361" hR="21600" stAng="5400000" swAng="153416"/>
                <a:lnTo>
                  <a:pt x="10321" y="21486"/>
                </a:lnTo>
                <a:arcTo wR="9361" hR="21600" stAng="5553416" swAng="5246584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06360" y="3178080"/>
            <a:ext cx="204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4"/>
          <p:cNvSpPr/>
          <p:nvPr/>
        </p:nvSpPr>
        <p:spPr>
          <a:xfrm>
            <a:off x="6753240" y="3187800"/>
            <a:ext cx="20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1"/>
          <a:srcRect l="38947" t="42138" r="40269" b="42117"/>
          <a:stretch/>
        </p:blipFill>
        <p:spPr>
          <a:xfrm>
            <a:off x="1941480" y="1197000"/>
            <a:ext cx="50068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84360" y="907920"/>
            <a:ext cx="770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Look at this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The big hand is pointing at 3, which is the first qu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small hand pointing? Is it on the numbe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It’s actually a quarter of the way between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1 and 2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39474" t="40957" r="38248" b="42254"/>
          <a:stretch/>
        </p:blipFill>
        <p:spPr>
          <a:xfrm>
            <a:off x="2268360" y="1177920"/>
            <a:ext cx="4811760" cy="5130720"/>
          </a:xfrm>
          <a:prstGeom prst="rect">
            <a:avLst/>
          </a:prstGeom>
          <a:ln w="0">
            <a:noFill/>
          </a:ln>
        </p:spPr>
      </p:pic>
      <p:cxnSp>
        <p:nvCxnSpPr>
          <p:cNvPr id="91" name="Straight Arrow Connector 22"/>
          <p:cNvCxnSpPr/>
          <p:nvPr/>
        </p:nvCxnSpPr>
        <p:spPr>
          <a:xfrm flipV="1">
            <a:off x="4532400" y="3141360"/>
            <a:ext cx="668880" cy="8164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Straight Arrow Connector 23"/>
          <p:cNvCxnSpPr/>
          <p:nvPr/>
        </p:nvCxnSpPr>
        <p:spPr>
          <a:xfrm flipV="1">
            <a:off x="4532400" y="3867840"/>
            <a:ext cx="1335600" cy="7092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39894" t="42824" r="39317" b="43530"/>
          <a:stretch/>
        </p:blipFill>
        <p:spPr>
          <a:xfrm>
            <a:off x="2424240" y="1681200"/>
            <a:ext cx="4595760" cy="426888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10"/>
          <p:cNvCxnSpPr/>
          <p:nvPr/>
        </p:nvCxnSpPr>
        <p:spPr>
          <a:xfrm flipH="1" flipV="1">
            <a:off x="4535280" y="2997000"/>
            <a:ext cx="111600" cy="972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Straight Arrow Connector 11"/>
          <p:cNvCxnSpPr/>
          <p:nvPr/>
        </p:nvCxnSpPr>
        <p:spPr>
          <a:xfrm flipH="1" flipV="1">
            <a:off x="3310920" y="3966840"/>
            <a:ext cx="1369080" cy="216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00" name="Text Box 8"/>
          <p:cNvSpPr/>
          <p:nvPr/>
        </p:nvSpPr>
        <p:spPr>
          <a:xfrm>
            <a:off x="2820240" y="99216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time is this clock show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627120" y="1521000"/>
            <a:ext cx="28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big hand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o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292720" y="1501920"/>
            <a:ext cx="32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ere is the </a:t>
            </a: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little hand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poin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Three quarters of the way between 11 and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94040" y="1425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Quarter to 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9"/>
          <p:cNvSpPr/>
          <p:nvPr/>
        </p:nvSpPr>
        <p:spPr>
          <a:xfrm>
            <a:off x="611280" y="765000"/>
            <a:ext cx="7848360" cy="547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187280" y="35924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049800" y="3483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Qua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rcRect l="38612" t="40243" r="39110" b="42958"/>
          <a:stretch/>
        </p:blipFill>
        <p:spPr>
          <a:xfrm>
            <a:off x="2116080" y="860400"/>
            <a:ext cx="4903920" cy="52326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5"/>
          <p:cNvSpPr/>
          <p:nvPr/>
        </p:nvSpPr>
        <p:spPr>
          <a:xfrm>
            <a:off x="3568680" y="57960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H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0"/>
          <p:cNvCxnSpPr/>
          <p:nvPr/>
        </p:nvCxnSpPr>
        <p:spPr>
          <a:xfrm>
            <a:off x="4670280" y="3871800"/>
            <a:ext cx="1054800" cy="278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Straight Arrow Connector 11"/>
          <p:cNvCxnSpPr/>
          <p:nvPr/>
        </p:nvCxnSpPr>
        <p:spPr>
          <a:xfrm>
            <a:off x="4640040" y="3871440"/>
            <a:ext cx="1080" cy="1413720"/>
          </a:xfrm>
          <a:prstGeom prst="straightConnector1">
            <a:avLst/>
          </a:prstGeom>
          <a:ln w="7632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111" name="TextBox 1"/>
          <p:cNvSpPr/>
          <p:nvPr/>
        </p:nvSpPr>
        <p:spPr>
          <a:xfrm>
            <a:off x="1652760" y="860400"/>
            <a:ext cx="59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do you notice about the small h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It is halfway between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inkl"/>
                <a:ea typeface="Arial"/>
              </a:rPr>
              <a:t>What time is this clock show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Twinkl"/>
                <a:ea typeface="Arial"/>
              </a:rPr>
              <a:t>Half past thre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26:22Z</dcterms:created>
  <dc:creator>User</dc:creator>
  <dc:description/>
  <dc:language>en-US</dc:language>
  <cp:lastModifiedBy>Twinkl</cp:lastModifiedBy>
  <dcterms:modified xsi:type="dcterms:W3CDTF">2017-03-07T16:11:19Z</dcterms:modified>
  <cp:revision>299</cp:revision>
  <dc:subject/>
  <dc:title>PowerPoint Presentation</dc:title>
</cp:coreProperties>
</file>